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98E-A7F0-40DF-95A4-BC91CA12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DCC-2F89-4BFC-A26A-05FF41F1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DA2FA-3F2E-4613-89AD-BDCDF429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F60C2-B5E4-4967-B240-32587493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CBD72-32FE-4D09-9969-EFBC5496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FFB93-2EC5-42E8-829E-EACD8711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1CD48-54EC-4576-AB1C-D5E6C25E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D849D-2FE9-4936-872B-CE75F251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B13CC-12E4-4F45-AB98-6A0123C1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BF6E1-805C-4FB6-9917-9066C54A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E167A-70C2-4CCD-A093-F01BE007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C00F9-2864-4572-A9C8-385D96C9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39E-A3E4-41A2-9F30-3CD2F121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74EFB-0B5C-405A-B807-165D524A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D80B4-E87B-43D4-AB33-CAF67283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9DAD4-9C0E-4236-A479-BF35B781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C82B8-F5B3-40B1-8A60-145FD98C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A23B9-1C37-4E7D-900E-474C35AE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A0787-E46D-4B03-9CCF-C4959D67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69BFD-FD71-4852-A193-72EC047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B21DC-2449-4AE6-8CDD-5AEDC5DB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D487B-72A7-4DDA-9A6F-4B057773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66364-4E9A-4B63-B178-80B4CCB5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1B3-7F63-4DB0-AD84-05902C7C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66FFE-1673-4F0A-9E42-62D1B20A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AB20A-ED62-46BF-9A4D-36869A48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AD087-BADC-4160-ABD6-53979809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2FB54-1E91-4709-8290-40C836EF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78696-AB71-47D7-83C2-CF8110CE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8969D-7E57-4299-A29B-8E9F3802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3D78-5A75-4DDF-9D3B-B6764156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17130-738F-428D-B632-34966A33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5A883-E868-435D-A989-9DBC6C76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F5682-A192-4F41-AE62-05075ED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4C66-8F74-4CAF-B9DF-AAA72D47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D2211-D141-4765-B1A1-F3D2E04B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7DE75-F001-408B-A22D-8105559D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5DB7D-BAC3-410A-AC12-5A521998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53B50-8E1A-4399-AB82-B909FFD0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C67D9-EF1A-4250-BB93-4F074030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26A69-BB76-4A12-B2F8-DAB279DA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535DA-4BD7-4C70-8083-4B9B04B5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BCF2E-6C9A-43F2-856D-1AE37F68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8C487-48E4-4F48-82F2-56BFE9F1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73BDA-E59A-457A-B514-1EED0FE2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F4B3-1718-4469-9ED0-23CDE269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8CDA5-FD00-4C54-B712-66CF708F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D017F-9DC2-41B9-91C5-6529D60A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963E6-3B05-44F5-B48B-1591B448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9DBFB-4787-46E7-93DD-C1FC6EE7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0B85F-BEEC-44D4-B997-5D7C9F80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0104A-5B66-4CDA-88AC-8000AB07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422D7-92A9-4FBC-B0D6-0DE0DE45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FF1AE-25AE-444B-B08D-106EF068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E79D1-9EA9-4AB4-BF3F-CDDC5CCE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F1867-287C-4449-8296-DCFD0AD4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D1A1-6B1C-4032-BBF3-1E90E7BC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B3A75-643C-4F7A-A3E9-FAC7E801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D37F7-7878-4F13-8FFC-7BB00598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84C71-7D2B-4831-A967-67D1879F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503D3-5312-4E7C-842B-76AE1ED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519B1-CCA4-406A-8EF6-5B55E873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50844-F684-4B04-86DF-20F6089E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1FBCC-7111-465F-A3A2-78DC8450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5165A-5B7B-4ECA-BE71-7F9811BD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C6FBB-B423-4063-AD40-AC553BC4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C5096-C209-464D-AFD3-0EDE0556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CA12-E840-44BA-B365-CA90201F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8E8AF-E0A4-43E6-B594-67B88E13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5D48B-2110-4779-84AB-A8B07C1E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EBF9C-6181-4CE9-8271-E7B0449B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3F46E-59B6-4C4F-8BD2-94C7075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BE11C-5DDC-4523-9AB9-F563DA4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58F3B-9931-4B64-BF75-5D69B58D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BDC48-47C8-43D4-9FAD-803CFD3B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8143C-A01C-49BD-9911-E12E4882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6F0DF-55B1-4F52-9736-3DFC6DE3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DD595-0934-4F93-B06C-5B7FBFDE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3CBC-1D2A-40B6-BEA0-CB33C404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2DB45-39C1-4077-9126-62C46FF1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93511-64F5-4D74-AC0D-8A7AFD8C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0C040-CC1F-4A34-8A0B-FEB3CAFF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3EB41-6248-49B1-8D4E-7A6BF272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FD8E3-BEC2-4259-85CA-10AC483C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174BD-65FE-4044-8541-CBBEFD41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8A536-635F-42A2-A9D1-71BFABF4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12500-7F76-45C4-BC73-6DDB24AA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69D22-F6AD-4633-A80B-EA94DCAC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B0376-E253-4B97-9A4F-C2564F2C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B704-3EAD-466C-8277-84F12CA2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43D4A-83D6-47F9-B6DB-A7BBC1A1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3B7D8-EF68-4707-B5EB-9960EE73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913D0-232F-43D8-AADD-BA7A4EF8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F8927-38D8-4075-B6ED-4DDF39D3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BF8F5-47B2-4151-A83E-7BA026FA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220EF-D099-4759-B614-785D2066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D8812-F624-4AF5-AA80-69B076B5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12C4A-AE3C-4492-9431-161D9E22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2E0A6-86C1-49BE-AF64-530C93C9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79E30-8266-4941-8F29-DB7326D6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8FEB-8A02-487E-A736-D3CF53E1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A98BAF-7801-4732-9A9D-131259BB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00472-5F86-4B16-90AC-59EF5995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867F6-AB12-458E-A1E3-ADB8F4E7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799-4FC5-4B88-AB27-EC10407A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17E4-4B42-402C-ACFD-7E34A8FB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70BA-8ABF-44D1-9D95-D53908BE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4EB2-8917-4C70-AB04-26F6FE04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C6C2-C8C5-4E60-9394-7483A9E3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E380-BF07-40F6-BD20-35008ECE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68D21-0BF3-4729-9811-876306D1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396A-E82B-4EA0-B47A-E15035C9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E85C-9877-4E7B-ABD3-BF2D7502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7CDA-70B4-45C8-88FC-E469C3AB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141F-3D5F-4AC3-BAA0-5D1B225A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D8A-5237-41D0-BE9B-7C9AD7AA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F2676-C31D-4987-A1B6-893786CD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2EB8-1C27-4B92-940F-9C0D8579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B635-7211-4999-B005-861F09BD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DF09-9E20-47C1-8EDE-A42E486D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85637-DA3F-4FAB-966E-3335EB18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B3CC-7942-4846-BDC1-B8AFC5DF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A98A-2B5A-439E-9212-400C5E34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EBC1-C972-483B-888E-299EE365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67464-5AD7-43A6-AAE7-5190A4CC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C993-BAAE-4D43-8D61-CD5B8364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B14-72CB-4101-8FA8-9922A01F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E57FB-9444-47A9-BC47-7CF8D17F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F403-B8E0-4B44-A348-5453A139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8A28-D142-45D1-A875-88584BAB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1BF5C-A25A-477C-91F0-2D21E25B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D0E5-8183-4025-89DA-A488032A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3EFD4-5F65-4BC1-BEC0-D9744971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9B6E1-5E7F-4863-B679-DAA496EC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9F14E-531F-4B88-A3DC-689919E7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1212-D483-46A9-B312-6D9C2F30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982FA-20A1-4F11-A2BF-1F50EB38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A18-0D8F-4F6C-B06B-6E2D2B39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6424A-4EEC-4FAA-B786-B130AA88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EB72-3FF5-44CF-8001-1BE3F83F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47BBE-D8EE-4D32-9DAB-65CA5339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7D28D-5E05-41DF-8B5B-63F92AFD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EDE0A-F256-4BD0-936F-CE63325A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60AA2-8B63-4004-A9C7-A9D96503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B3A28-C619-47D5-A7D4-079891E6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2B39E-D9F7-4BBF-861D-BE877302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43462-AF37-428C-B47B-53FCF9EA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42DF6-D3A0-4AF1-82D5-781F7321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3B9-FB07-472D-B69A-B667D3F0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CA33D-9F42-4095-8351-6C3E166B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6B3F0-D647-4BEE-BA9F-B477C5E3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836A-FB08-4C91-80D4-8C1D505F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81ABC-3ABA-4729-B5E9-888FA65B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2B2E2-BFF1-43A6-9FB3-E4F4F3A8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A56F5-0FAF-4F48-B60C-071E65A4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0A31D-E0C9-4430-8E95-3B9A095E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D2B20-7BD6-4958-A57B-FEBB5822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1BE3F-7717-4978-BC61-643377D2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A8DAF-E142-4042-B6EA-DC450E8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339-C549-4734-834F-1919EFED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4E56F-6EFC-436D-860E-FFC7F65B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AF877-E712-494A-BCF2-BF864B0C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B6745-03C9-4F6C-9DFA-31146654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0D77E-4564-4864-8968-B8571DE4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9C091-2446-47A6-9605-2B82DE4A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B1879-A3C0-46F9-8545-AB9E0270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C4FB-0BCD-42F5-BC0C-267568C1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203CB-5EC0-4008-95D5-82100704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B0FFF-7C8E-478B-B11C-03A15D46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DE4D2-3345-41BD-AD1C-416A29B2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41A-12DA-40E9-A26D-6EF7EB57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F2E4E-7255-4CCF-AA59-3A42398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77528-4819-4E32-A961-39C7264A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47CF-55EC-48E7-9BE3-14140ED0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EE131-85D3-4E00-AB46-3F63DC9C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EA49C-0642-4A5C-BD25-CFB7AF34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A1221-FCCD-4195-B364-80BAB0EB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B972B-22C8-4BE2-ADFD-F0A50CF1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0DA55-7EE4-4DAE-B0F8-F365774C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F4A83-C8C0-4AF6-97BC-299336D7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51DB1-B143-4199-BB5F-D1D0732A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E40-8A13-4C0B-AFCA-950CDD70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56F35-A747-4A12-89BB-AA433BC5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68CE9-82C4-4AFD-A51C-7B4C81C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DC04A-235B-429B-97B2-1BDF9D64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FD22A-6C57-4E70-A6AD-353949F1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4960C-EB88-4DA7-825D-747A8D32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25BEB-BDC8-4BD9-ACAD-B81DAB9B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F0A55-DF25-40F9-9A4E-BA788A2B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4B8BC-BAF7-4AAD-A3B8-570F6E62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2EDDB-FA12-4591-9175-09F22A21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58B5C-8808-4936-99F6-AB5FDECA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24D9-CD6E-455F-A3FE-1F232A842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BBB8-3A5C-44C5-915B-1F49E1EBAC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8E5C-2C0F-45C6-A055-D1EBFB8B62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709F-30BD-45B1-A6D2-476C0A213A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1621-1915-43FD-8429-0942FC3899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AA84-0513-4AB2-A9E7-C5C59A699B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FE89-F56F-4DFA-BD10-C157C1AE72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8318-CE25-473F-A98B-AEC8FCD73B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FCE2-A072-4E5A-988C-78EBEE2F2593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16FC-88A3-41C4-BACC-6D04B7D95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72FA-4403-497A-BC26-51E048555569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87D8-047D-4091-B309-DC0A36A14425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8A0A-8426-42D1-B22C-40D725F972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D74F-80B4-4B1E-B4B3-7DFBBD05C9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152C-B577-47AE-80F3-9B1F5FDB14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B0D2-7FE7-4773-B066-1D1A6EEAE0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2119320" y="404640"/>
            <a:ext cx="422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Матема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3492360" y="1268280"/>
            <a:ext cx="14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361800" y="2421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Деление многозначного числа на двузнач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Рисунок 3" descr="post-56918-1250505756.png"/>
          <p:cNvPicPr/>
          <p:nvPr/>
        </p:nvPicPr>
        <p:blipFill>
          <a:blip r:embed="rId2"/>
          <a:stretch/>
        </p:blipFill>
        <p:spPr>
          <a:xfrm>
            <a:off x="5580000" y="3141720"/>
            <a:ext cx="1857600" cy="2784240"/>
          </a:xfrm>
          <a:prstGeom prst="rect">
            <a:avLst/>
          </a:prstGeom>
          <a:ln w="0">
            <a:noFill/>
          </a:ln>
        </p:spPr>
      </p:pic>
      <p:pic>
        <p:nvPicPr>
          <p:cNvPr id="661" name="Рисунок 2" descr="post-56918-1250421038.png"/>
          <p:cNvPicPr/>
          <p:nvPr/>
        </p:nvPicPr>
        <p:blipFill>
          <a:blip r:embed="rId3"/>
          <a:stretch/>
        </p:blipFill>
        <p:spPr>
          <a:xfrm>
            <a:off x="0" y="3621240"/>
            <a:ext cx="18921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Картинки по запросу картинки на клетках тетра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8" name="TextBox 4"/>
          <p:cNvSpPr/>
          <p:nvPr/>
        </p:nvSpPr>
        <p:spPr>
          <a:xfrm>
            <a:off x="4680" y="-34920"/>
            <a:ext cx="91393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ложнённые урав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6"/>
          <p:cNvSpPr/>
          <p:nvPr/>
        </p:nvSpPr>
        <p:spPr>
          <a:xfrm>
            <a:off x="123480" y="74628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8 - х)  31  = 15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"/>
          <p:cNvSpPr/>
          <p:nvPr/>
        </p:nvSpPr>
        <p:spPr>
          <a:xfrm>
            <a:off x="1337400" y="3459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6"/>
          <p:cNvSpPr/>
          <p:nvPr/>
        </p:nvSpPr>
        <p:spPr>
          <a:xfrm>
            <a:off x="4836240" y="76356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10+1206:у=3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2" descr="Картинки по запросу картинки на клетках тетра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4" name="TextBox 9"/>
          <p:cNvSpPr/>
          <p:nvPr/>
        </p:nvSpPr>
        <p:spPr>
          <a:xfrm>
            <a:off x="4680" y="-34920"/>
            <a:ext cx="91393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а на нахождение неизвестного по двум разнос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ая соединительная линия 4"/>
          <p:cNvSpPr/>
          <p:nvPr/>
        </p:nvSpPr>
        <p:spPr>
          <a:xfrm>
            <a:off x="826920" y="1197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ая соединительная линия 6"/>
          <p:cNvSpPr/>
          <p:nvPr/>
        </p:nvSpPr>
        <p:spPr>
          <a:xfrm>
            <a:off x="828720" y="1879560"/>
            <a:ext cx="2303280" cy="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ая соединительная линия 8"/>
          <p:cNvSpPr/>
          <p:nvPr/>
        </p:nvSpPr>
        <p:spPr>
          <a:xfrm>
            <a:off x="826920" y="1052640"/>
            <a:ext cx="0" cy="3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ая соединительная линия 12"/>
          <p:cNvSpPr/>
          <p:nvPr/>
        </p:nvSpPr>
        <p:spPr>
          <a:xfrm>
            <a:off x="826920" y="1692360"/>
            <a:ext cx="0" cy="3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ая соединительная линия 13"/>
          <p:cNvSpPr/>
          <p:nvPr/>
        </p:nvSpPr>
        <p:spPr>
          <a:xfrm>
            <a:off x="4356000" y="1014480"/>
            <a:ext cx="0" cy="3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ая соединительная линия 14"/>
          <p:cNvSpPr/>
          <p:nvPr/>
        </p:nvSpPr>
        <p:spPr>
          <a:xfrm>
            <a:off x="3129120" y="973080"/>
            <a:ext cx="0" cy="262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ая соединительная линия 15"/>
          <p:cNvSpPr/>
          <p:nvPr/>
        </p:nvSpPr>
        <p:spPr>
          <a:xfrm>
            <a:off x="3129120" y="137952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ая соединительная линия 16"/>
          <p:cNvSpPr/>
          <p:nvPr/>
        </p:nvSpPr>
        <p:spPr>
          <a:xfrm>
            <a:off x="3129120" y="1771560"/>
            <a:ext cx="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7"/>
          <p:cNvSpPr/>
          <p:nvPr/>
        </p:nvSpPr>
        <p:spPr>
          <a:xfrm>
            <a:off x="236160" y="71136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18"/>
          <p:cNvSpPr/>
          <p:nvPr/>
        </p:nvSpPr>
        <p:spPr>
          <a:xfrm>
            <a:off x="202320" y="150984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22"/>
          <p:cNvSpPr/>
          <p:nvPr/>
        </p:nvSpPr>
        <p:spPr>
          <a:xfrm>
            <a:off x="1542240" y="60336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3"/>
          <p:cNvSpPr/>
          <p:nvPr/>
        </p:nvSpPr>
        <p:spPr>
          <a:xfrm>
            <a:off x="1674000" y="139536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24"/>
          <p:cNvSpPr/>
          <p:nvPr/>
        </p:nvSpPr>
        <p:spPr>
          <a:xfrm>
            <a:off x="3427200" y="6732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5"/>
          <p:cNvSpPr/>
          <p:nvPr/>
        </p:nvSpPr>
        <p:spPr>
          <a:xfrm>
            <a:off x="3487680" y="11970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27"/>
          <p:cNvSpPr/>
          <p:nvPr/>
        </p:nvSpPr>
        <p:spPr>
          <a:xfrm>
            <a:off x="5794920" y="141768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20"/>
          <p:cNvSpPr/>
          <p:nvPr/>
        </p:nvSpPr>
        <p:spPr>
          <a:xfrm>
            <a:off x="5430960" y="1376280"/>
            <a:ext cx="384120" cy="419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9"/>
          <p:cNvSpPr/>
          <p:nvPr/>
        </p:nvSpPr>
        <p:spPr>
          <a:xfrm>
            <a:off x="5819400" y="73836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4"/>
          <p:cNvSpPr/>
          <p:nvPr/>
        </p:nvSpPr>
        <p:spPr>
          <a:xfrm>
            <a:off x="5416560" y="763560"/>
            <a:ext cx="3985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8"/>
          <p:cNvSpPr/>
          <p:nvPr/>
        </p:nvSpPr>
        <p:spPr>
          <a:xfrm>
            <a:off x="108000" y="2114640"/>
            <a:ext cx="90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600-400=200 (км) – за 10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200:10=20(км) – за 1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600: 20= 30 (ч) – на 6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400:20=20 (ч) – на 4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4" name=""/>
          <p:cNvGraphicFramePr/>
          <p:nvPr/>
        </p:nvGraphicFramePr>
        <p:xfrm>
          <a:off x="9360" y="0"/>
          <a:ext cx="9123480" cy="6521400"/>
        </p:xfrm>
        <a:graphic>
          <a:graphicData uri="http://schemas.openxmlformats.org/drawingml/2006/table">
            <a:tbl>
              <a:tblPr/>
              <a:tblGrid>
                <a:gridCol w="3699000"/>
                <a:gridCol w="2711520"/>
                <a:gridCol w="2712960"/>
              </a:tblGrid>
              <a:tr h="105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ные ошиб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кой причине могла быть допущена 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ужно сделать, чтобы не допустить ошиб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5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рямоугольника со сторонами 7см и 3 см равна 20 с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комнаты 18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9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88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     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дороги 20км. Прошли две пятых дороги. Сколько км дороги прошл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:2*5=50 (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65" name="Прямая соединительная линия 2"/>
          <p:cNvSpPr/>
          <p:nvPr/>
        </p:nvSpPr>
        <p:spPr>
          <a:xfrm>
            <a:off x="757080" y="32180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ая соединительная линия 4"/>
          <p:cNvSpPr/>
          <p:nvPr/>
        </p:nvSpPr>
        <p:spPr>
          <a:xfrm>
            <a:off x="757080" y="35132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рямая соединительная линия 7"/>
          <p:cNvSpPr/>
          <p:nvPr/>
        </p:nvSpPr>
        <p:spPr>
          <a:xfrm>
            <a:off x="290520" y="436572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14"/>
          <p:cNvSpPr/>
          <p:nvPr/>
        </p:nvSpPr>
        <p:spPr>
          <a:xfrm>
            <a:off x="74520" y="37688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16"/>
          <p:cNvSpPr/>
          <p:nvPr/>
        </p:nvSpPr>
        <p:spPr>
          <a:xfrm>
            <a:off x="150840" y="407664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19"/>
          <p:cNvSpPr/>
          <p:nvPr/>
        </p:nvSpPr>
        <p:spPr>
          <a:xfrm>
            <a:off x="20520" y="350028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17"/>
          <p:cNvSpPr/>
          <p:nvPr/>
        </p:nvSpPr>
        <p:spPr>
          <a:xfrm>
            <a:off x="356400" y="285264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26"/>
          <p:cNvSpPr/>
          <p:nvPr/>
        </p:nvSpPr>
        <p:spPr>
          <a:xfrm>
            <a:off x="3708360" y="1052640"/>
            <a:ext cx="25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шёл не площадь, а периметр прям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7"/>
          <p:cNvSpPr/>
          <p:nvPr/>
        </p:nvSpPr>
        <p:spPr>
          <a:xfrm>
            <a:off x="6443640" y="1052640"/>
            <a:ext cx="27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ь отличие формул нахождения периметра и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28"/>
          <p:cNvSpPr/>
          <p:nvPr/>
        </p:nvSpPr>
        <p:spPr>
          <a:xfrm>
            <a:off x="3703680" y="20988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еправильно написал единицу измерения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29"/>
          <p:cNvSpPr/>
          <p:nvPr/>
        </p:nvSpPr>
        <p:spPr>
          <a:xfrm>
            <a:off x="6443640" y="2098800"/>
            <a:ext cx="27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ь, что площадь измеряется в квадратных единиц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30"/>
          <p:cNvSpPr/>
          <p:nvPr/>
        </p:nvSpPr>
        <p:spPr>
          <a:xfrm>
            <a:off x="3703680" y="3213000"/>
            <a:ext cx="273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е определил количество цифр в част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49151"/>
          <p:cNvSpPr/>
          <p:nvPr/>
        </p:nvSpPr>
        <p:spPr>
          <a:xfrm>
            <a:off x="6459480" y="321300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алгоритм письменного д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9152"/>
          <p:cNvSpPr/>
          <p:nvPr/>
        </p:nvSpPr>
        <p:spPr>
          <a:xfrm>
            <a:off x="3703680" y="4867200"/>
            <a:ext cx="273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шёл не часть от числа, а число по его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49154"/>
          <p:cNvSpPr/>
          <p:nvPr/>
        </p:nvSpPr>
        <p:spPr>
          <a:xfrm>
            <a:off x="6443640" y="4867200"/>
            <a:ext cx="268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правила и запомнить их от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49156"/>
          <p:cNvSpPr/>
          <p:nvPr/>
        </p:nvSpPr>
        <p:spPr>
          <a:xfrm>
            <a:off x="54000" y="27000"/>
            <a:ext cx="9128160" cy="1096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учеников 4 класса встретились ошибки. Определи по какой причине учащиеся могли их допустить, посоветуй, что нужно делать, чтобы следующий раз такая ошибка не повтор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AutoShape 4"/>
          <p:cNvSpPr/>
          <p:nvPr/>
        </p:nvSpPr>
        <p:spPr>
          <a:xfrm>
            <a:off x="1116000" y="692280"/>
            <a:ext cx="1062000" cy="121428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1042920" y="4437000"/>
            <a:ext cx="1062000" cy="1200240"/>
          </a:xfrm>
          <a:prstGeom prst="smileyFace">
            <a:avLst>
              <a:gd name="adj" fmla="val -465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1116000" y="2276640"/>
            <a:ext cx="1062000" cy="1143000"/>
          </a:xfrm>
          <a:prstGeom prst="smileyFace">
            <a:avLst>
              <a:gd name="adj" fmla="val 19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8"/>
          <p:cNvSpPr/>
          <p:nvPr/>
        </p:nvSpPr>
        <p:spPr>
          <a:xfrm>
            <a:off x="3071880" y="928800"/>
            <a:ext cx="550080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Урок прошел уда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Я доволен с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не было трудно, но я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 c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авлялся с зад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Я вполне доволен с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не было очень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не нужна помощ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C:\Users\User\Desktop\Новая папка\0_71429_c7bb8734_XL.png"/>
          <p:cNvPicPr/>
          <p:nvPr/>
        </p:nvPicPr>
        <p:blipFill>
          <a:blip r:embed="rId1"/>
          <a:stretch/>
        </p:blipFill>
        <p:spPr>
          <a:xfrm>
            <a:off x="4254480" y="3257640"/>
            <a:ext cx="4889520" cy="3600360"/>
          </a:xfrm>
          <a:prstGeom prst="rect">
            <a:avLst/>
          </a:prstGeom>
          <a:ln w="0">
            <a:noFill/>
          </a:ln>
        </p:spPr>
      </p:pic>
      <p:pic>
        <p:nvPicPr>
          <p:cNvPr id="787" name="Рисунок 4" descr="C:\Users\1\Desktop\2015-01-06\Mail0001.JPG"/>
          <p:cNvPicPr/>
          <p:nvPr/>
        </p:nvPicPr>
        <p:blipFill>
          <a:blip r:embed="rId2"/>
          <a:stretch/>
        </p:blipFill>
        <p:spPr>
          <a:xfrm>
            <a:off x="900000" y="1557360"/>
            <a:ext cx="26701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3"/>
          <p:cNvSpPr/>
          <p:nvPr/>
        </p:nvSpPr>
        <p:spPr>
          <a:xfrm>
            <a:off x="33480" y="20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получится, если умножить делитель на част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Рисунок 1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664" name="Прямоугольник 2"/>
          <p:cNvSpPr/>
          <p:nvPr/>
        </p:nvSpPr>
        <p:spPr>
          <a:xfrm>
            <a:off x="0" y="1084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а каком из квадратиков закрашена ровно треть клеточе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3"/>
          <p:cNvSpPr/>
          <p:nvPr/>
        </p:nvSpPr>
        <p:spPr>
          <a:xfrm>
            <a:off x="4043160" y="383364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2"/>
          <p:cNvSpPr/>
          <p:nvPr/>
        </p:nvSpPr>
        <p:spPr>
          <a:xfrm>
            <a:off x="3579840" y="59364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Багетная рамка 14"/>
          <p:cNvSpPr/>
          <p:nvPr/>
        </p:nvSpPr>
        <p:spPr>
          <a:xfrm>
            <a:off x="3568680" y="674640"/>
            <a:ext cx="1371600" cy="3985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Багетная рамка 16"/>
          <p:cNvSpPr/>
          <p:nvPr/>
        </p:nvSpPr>
        <p:spPr>
          <a:xfrm>
            <a:off x="3616200" y="4259160"/>
            <a:ext cx="1371600" cy="3985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оугольник 4"/>
          <p:cNvSpPr/>
          <p:nvPr/>
        </p:nvSpPr>
        <p:spPr>
          <a:xfrm>
            <a:off x="0" y="4888080"/>
            <a:ext cx="93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итя вышел  из дома в 11 ч. 45 мин. и шёл до библиотеки 25 мин. Во сколько Витя пришёл в библиоте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3"/>
          <p:cNvSpPr/>
          <p:nvPr/>
        </p:nvSpPr>
        <p:spPr>
          <a:xfrm>
            <a:off x="3368520" y="59230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ч. 10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Багетная рамка 19"/>
          <p:cNvSpPr/>
          <p:nvPr/>
        </p:nvSpPr>
        <p:spPr>
          <a:xfrm>
            <a:off x="3346560" y="6084720"/>
            <a:ext cx="2154240" cy="4003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Прямоугольник 2"/>
          <p:cNvSpPr/>
          <p:nvPr/>
        </p:nvSpPr>
        <p:spPr>
          <a:xfrm>
            <a:off x="19080" y="223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ом выражении последним действием будет умно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+c*b-d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c*k)*(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+p-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*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-c*a)*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3"/>
          <p:cNvSpPr/>
          <p:nvPr/>
        </p:nvSpPr>
        <p:spPr>
          <a:xfrm>
            <a:off x="6664320" y="109872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c*k)*(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Багетная рамка 5"/>
          <p:cNvSpPr/>
          <p:nvPr/>
        </p:nvSpPr>
        <p:spPr>
          <a:xfrm>
            <a:off x="6696000" y="1239840"/>
            <a:ext cx="219708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4"/>
          <p:cNvSpPr/>
          <p:nvPr/>
        </p:nvSpPr>
        <p:spPr>
          <a:xfrm>
            <a:off x="19080" y="20541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спользуя свойства, выпиши верное равен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6 ∙ 10 ∙ 6 &lt; 356 ∙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8 ∙ 24 &lt; 478 ∙ (3 ∙ 9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6 ∙ 80 = 296 ∙ (10 +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5640840" y="274644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8 ∙ 24 &lt; 478 ∙ (3 ∙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Багетная рамка 8"/>
          <p:cNvSpPr/>
          <p:nvPr/>
        </p:nvSpPr>
        <p:spPr>
          <a:xfrm>
            <a:off x="5622840" y="2870280"/>
            <a:ext cx="327024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оугольник 6"/>
          <p:cNvSpPr/>
          <p:nvPr/>
        </p:nvSpPr>
        <p:spPr>
          <a:xfrm>
            <a:off x="-3240" y="3870360"/>
            <a:ext cx="914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 какой из формул можно найти длину прямоуголь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*2+в*2     (Р-в*2):2        а*в:2                (а+в)*2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9"/>
          <p:cNvSpPr/>
          <p:nvPr/>
        </p:nvSpPr>
        <p:spPr>
          <a:xfrm>
            <a:off x="3377160" y="56545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в*2):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Багетная рамка 11"/>
          <p:cNvSpPr/>
          <p:nvPr/>
        </p:nvSpPr>
        <p:spPr>
          <a:xfrm>
            <a:off x="2700360" y="5778360"/>
            <a:ext cx="3268800" cy="4003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рямоугольник 1"/>
          <p:cNvSpPr/>
          <p:nvPr/>
        </p:nvSpPr>
        <p:spPr>
          <a:xfrm>
            <a:off x="-17640" y="0"/>
            <a:ext cx="903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Барон Мюнхгаузен пересчитал число волшебных волос в бороде старика Хоттабыча. Оно оказалось равным сумме наименьшего трёхзначного числа и наибольшего двузначного. Что это за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4"/>
          <p:cNvSpPr/>
          <p:nvPr/>
        </p:nvSpPr>
        <p:spPr>
          <a:xfrm>
            <a:off x="5151600" y="1413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Багетная рамка 6"/>
          <p:cNvSpPr/>
          <p:nvPr/>
        </p:nvSpPr>
        <p:spPr>
          <a:xfrm>
            <a:off x="5110200" y="1474920"/>
            <a:ext cx="140652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оугольник 5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Делитель 7, частное 12, остаток 3. Найди дели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7"/>
          <p:cNvSpPr/>
          <p:nvPr/>
        </p:nvSpPr>
        <p:spPr>
          <a:xfrm>
            <a:off x="3927600" y="2655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Багетная рамка 9"/>
          <p:cNvSpPr/>
          <p:nvPr/>
        </p:nvSpPr>
        <p:spPr>
          <a:xfrm>
            <a:off x="3703680" y="2717640"/>
            <a:ext cx="1299960" cy="4003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8"/>
          <p:cNvSpPr/>
          <p:nvPr/>
        </p:nvSpPr>
        <p:spPr>
          <a:xfrm>
            <a:off x="-17640" y="3219480"/>
            <a:ext cx="916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акое число верно записано, в кото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6 единиц II класса, 7единиц I клас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6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40600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40607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406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10"/>
          <p:cNvSpPr/>
          <p:nvPr/>
        </p:nvSpPr>
        <p:spPr>
          <a:xfrm>
            <a:off x="6809760" y="365904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6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Багетная рамка 12"/>
          <p:cNvSpPr/>
          <p:nvPr/>
        </p:nvSpPr>
        <p:spPr>
          <a:xfrm>
            <a:off x="6804000" y="3711600"/>
            <a:ext cx="144000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11"/>
          <p:cNvSpPr/>
          <p:nvPr/>
        </p:nvSpPr>
        <p:spPr>
          <a:xfrm>
            <a:off x="-17640" y="4768920"/>
            <a:ext cx="916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Мама сварила 12 л вишневого варенья и 18 л клубничного. Все варенье разлили в трехлитровые банки.  Сколько банок понадоб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3"/>
          <p:cNvSpPr/>
          <p:nvPr/>
        </p:nvSpPr>
        <p:spPr>
          <a:xfrm>
            <a:off x="5375160" y="585792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ба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Багетная рамка 15"/>
          <p:cNvSpPr/>
          <p:nvPr/>
        </p:nvSpPr>
        <p:spPr>
          <a:xfrm>
            <a:off x="5292720" y="5919840"/>
            <a:ext cx="163188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секаются 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АВ и отрезок 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АВ и луч 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и АВ и 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е АВ и 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АВ и 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АВ и 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ДС и 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ая соединительная линия 3"/>
          <p:cNvSpPr/>
          <p:nvPr/>
        </p:nvSpPr>
        <p:spPr>
          <a:xfrm>
            <a:off x="611280" y="5950080"/>
            <a:ext cx="266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Блок-схема: узел 4"/>
          <p:cNvSpPr/>
          <p:nvPr/>
        </p:nvSpPr>
        <p:spPr>
          <a:xfrm>
            <a:off x="1042920" y="5842080"/>
            <a:ext cx="21600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Блок-схема: узел 5"/>
          <p:cNvSpPr/>
          <p:nvPr/>
        </p:nvSpPr>
        <p:spPr>
          <a:xfrm>
            <a:off x="2484360" y="5842080"/>
            <a:ext cx="21600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Блок-схема: узел 6"/>
          <p:cNvSpPr/>
          <p:nvPr/>
        </p:nvSpPr>
        <p:spPr>
          <a:xfrm>
            <a:off x="2916360" y="4527720"/>
            <a:ext cx="215640" cy="21744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Блок-схема: узел 7"/>
          <p:cNvSpPr/>
          <p:nvPr/>
        </p:nvSpPr>
        <p:spPr>
          <a:xfrm>
            <a:off x="4338720" y="5445000"/>
            <a:ext cx="21564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Блок-схема: узел 8"/>
          <p:cNvSpPr/>
          <p:nvPr/>
        </p:nvSpPr>
        <p:spPr>
          <a:xfrm>
            <a:off x="7380360" y="3141720"/>
            <a:ext cx="21600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Блок-схема: узел 9"/>
          <p:cNvSpPr/>
          <p:nvPr/>
        </p:nvSpPr>
        <p:spPr>
          <a:xfrm>
            <a:off x="6113520" y="4216320"/>
            <a:ext cx="21600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ая соединительная линия 10"/>
          <p:cNvSpPr/>
          <p:nvPr/>
        </p:nvSpPr>
        <p:spPr>
          <a:xfrm>
            <a:off x="2060640" y="3979800"/>
            <a:ext cx="3178080" cy="21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ая соединительная линия 12"/>
          <p:cNvSpPr/>
          <p:nvPr/>
        </p:nvSpPr>
        <p:spPr>
          <a:xfrm flipV="1">
            <a:off x="5435640" y="2708280"/>
            <a:ext cx="2736720" cy="22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5"/>
          <p:cNvSpPr/>
          <p:nvPr/>
        </p:nvSpPr>
        <p:spPr>
          <a:xfrm>
            <a:off x="922680" y="5372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6"/>
          <p:cNvSpPr/>
          <p:nvPr/>
        </p:nvSpPr>
        <p:spPr>
          <a:xfrm>
            <a:off x="2363760" y="52862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7"/>
          <p:cNvSpPr/>
          <p:nvPr/>
        </p:nvSpPr>
        <p:spPr>
          <a:xfrm>
            <a:off x="3029760" y="4100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9"/>
          <p:cNvSpPr/>
          <p:nvPr/>
        </p:nvSpPr>
        <p:spPr>
          <a:xfrm>
            <a:off x="5761800" y="3801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20"/>
          <p:cNvSpPr/>
          <p:nvPr/>
        </p:nvSpPr>
        <p:spPr>
          <a:xfrm>
            <a:off x="4346640" y="5011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21"/>
          <p:cNvSpPr/>
          <p:nvPr/>
        </p:nvSpPr>
        <p:spPr>
          <a:xfrm>
            <a:off x="7018920" y="272880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2"/>
          <p:cNvSpPr/>
          <p:nvPr/>
        </p:nvSpPr>
        <p:spPr>
          <a:xfrm>
            <a:off x="4728600" y="40464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Багетная рамка 18"/>
          <p:cNvSpPr/>
          <p:nvPr/>
        </p:nvSpPr>
        <p:spPr>
          <a:xfrm>
            <a:off x="4572000" y="512640"/>
            <a:ext cx="1406520" cy="3985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9"/>
          <p:cNvSpPr/>
          <p:nvPr/>
        </p:nvSpPr>
        <p:spPr>
          <a:xfrm>
            <a:off x="4747680" y="90972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20"/>
          <p:cNvSpPr/>
          <p:nvPr/>
        </p:nvSpPr>
        <p:spPr>
          <a:xfrm>
            <a:off x="4766040" y="131292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21"/>
          <p:cNvSpPr/>
          <p:nvPr/>
        </p:nvSpPr>
        <p:spPr>
          <a:xfrm>
            <a:off x="4744800" y="17413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22"/>
          <p:cNvSpPr/>
          <p:nvPr/>
        </p:nvSpPr>
        <p:spPr>
          <a:xfrm>
            <a:off x="4704120" y="220032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23"/>
          <p:cNvSpPr/>
          <p:nvPr/>
        </p:nvSpPr>
        <p:spPr>
          <a:xfrm>
            <a:off x="4811760" y="258300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24"/>
          <p:cNvSpPr/>
          <p:nvPr/>
        </p:nvSpPr>
        <p:spPr>
          <a:xfrm>
            <a:off x="4744800" y="30448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Багетная рамка 25"/>
          <p:cNvSpPr/>
          <p:nvPr/>
        </p:nvSpPr>
        <p:spPr>
          <a:xfrm>
            <a:off x="4573440" y="965160"/>
            <a:ext cx="1406520" cy="3985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Багетная рамка 26"/>
          <p:cNvSpPr/>
          <p:nvPr/>
        </p:nvSpPr>
        <p:spPr>
          <a:xfrm>
            <a:off x="4554360" y="1414440"/>
            <a:ext cx="140688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Багетная рамка 27"/>
          <p:cNvSpPr/>
          <p:nvPr/>
        </p:nvSpPr>
        <p:spPr>
          <a:xfrm>
            <a:off x="4572000" y="1865160"/>
            <a:ext cx="1406520" cy="3985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Багетная рамка 28"/>
          <p:cNvSpPr/>
          <p:nvPr/>
        </p:nvSpPr>
        <p:spPr>
          <a:xfrm>
            <a:off x="4572000" y="2325600"/>
            <a:ext cx="140652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Багетная рамка 29"/>
          <p:cNvSpPr/>
          <p:nvPr/>
        </p:nvSpPr>
        <p:spPr>
          <a:xfrm>
            <a:off x="4575240" y="2776680"/>
            <a:ext cx="140652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Багетная рамка 30"/>
          <p:cNvSpPr/>
          <p:nvPr/>
        </p:nvSpPr>
        <p:spPr>
          <a:xfrm>
            <a:off x="4589640" y="3238560"/>
            <a:ext cx="140472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710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10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ление на двузначно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лгори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Скругленный прямоугольник 5"/>
          <p:cNvSpPr/>
          <p:nvPr/>
        </p:nvSpPr>
        <p:spPr>
          <a:xfrm>
            <a:off x="250920" y="954000"/>
            <a:ext cx="8713800" cy="590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деляю первое неполное дели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яю количество цифр в  част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яю первую цифру част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обую подходит ли пробная цифра част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ножаю полученную цифру частного на дел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ычит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ахожу второе неполное дели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пределяю вторую цифру частного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Разделил все десятки дели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Деление оконч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Читаю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2252520" y="-4680"/>
            <a:ext cx="422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Алгорит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Скругленный прямоугольник 2"/>
          <p:cNvSpPr/>
          <p:nvPr/>
        </p:nvSpPr>
        <p:spPr>
          <a:xfrm>
            <a:off x="338040" y="1122480"/>
            <a:ext cx="19144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Скругленный прямоугольник 3"/>
          <p:cNvSpPr/>
          <p:nvPr/>
        </p:nvSpPr>
        <p:spPr>
          <a:xfrm>
            <a:off x="2786040" y="112248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Скругленный прямоугольник 9"/>
          <p:cNvSpPr/>
          <p:nvPr/>
        </p:nvSpPr>
        <p:spPr>
          <a:xfrm>
            <a:off x="6224760" y="1135080"/>
            <a:ext cx="2447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Скругленный прямоугольник 10"/>
          <p:cNvSpPr/>
          <p:nvPr/>
        </p:nvSpPr>
        <p:spPr>
          <a:xfrm>
            <a:off x="5000760" y="2752560"/>
            <a:ext cx="2447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Рисунок 11" descr=""/>
          <p:cNvPicPr/>
          <p:nvPr/>
        </p:nvPicPr>
        <p:blipFill>
          <a:blip r:embed="rId2"/>
          <a:stretch/>
        </p:blipFill>
        <p:spPr>
          <a:xfrm>
            <a:off x="3367080" y="4005360"/>
            <a:ext cx="2409840" cy="2523960"/>
          </a:xfrm>
          <a:prstGeom prst="rect">
            <a:avLst/>
          </a:prstGeom>
          <a:ln w="0">
            <a:noFill/>
          </a:ln>
        </p:spPr>
      </p:pic>
      <p:sp>
        <p:nvSpPr>
          <p:cNvPr id="732" name="Скругленный прямоугольник 8"/>
          <p:cNvSpPr/>
          <p:nvPr/>
        </p:nvSpPr>
        <p:spPr>
          <a:xfrm>
            <a:off x="1514520" y="280188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Прямоугольник 3"/>
          <p:cNvSpPr/>
          <p:nvPr/>
        </p:nvSpPr>
        <p:spPr>
          <a:xfrm>
            <a:off x="12600" y="0"/>
            <a:ext cx="91314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из трёх чисел, записанных справа от выражения, будет первым неполным делим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837186: 93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            83          8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428 : 34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           142        1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21084 : 21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       21          2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788736 : 64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            7            7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234780:14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       23          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654327:87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            6            6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"Головоломки Стивенса"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данных примеров только один решен верн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 его за одну минут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Рисунок 7" descr="Файл:27.01-14.jpg"/>
          <p:cNvPicPr/>
          <p:nvPr/>
        </p:nvPicPr>
        <p:blipFill>
          <a:blip r:embed="rId2"/>
          <a:stretch/>
        </p:blipFill>
        <p:spPr>
          <a:xfrm>
            <a:off x="0" y="1446120"/>
            <a:ext cx="9144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7:56:57Z</dcterms:created>
  <dc:creator>adm</dc:creator>
  <dc:description/>
  <dc:language>en-US</dc:language>
  <cp:lastModifiedBy>USER</cp:lastModifiedBy>
  <dcterms:modified xsi:type="dcterms:W3CDTF">2021-11-02T08:01:03Z</dcterms:modified>
  <cp:revision>122</cp:revision>
  <dc:subject/>
  <dc:title> </dc:title>
</cp:coreProperties>
</file>